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064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560" y="3988440"/>
            <a:ext cx="8064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56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3700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031200" y="160020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57480" y="160020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560" y="398844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031200" y="398844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57480" y="398844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04560" y="1600200"/>
            <a:ext cx="80643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064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8070840" cy="53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56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560" y="1600200"/>
            <a:ext cx="80643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43700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560" y="3988440"/>
            <a:ext cx="8064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064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4560" y="3988440"/>
            <a:ext cx="8064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56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43700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031200" y="160020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757480" y="160020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04560" y="398844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031200" y="398844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757480" y="398844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064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8070840" cy="53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56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3700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560" y="3988440"/>
            <a:ext cx="8064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xtHeaderSecClass"/>
          <p:cNvSpPr/>
          <p:nvPr/>
        </p:nvSpPr>
        <p:spPr>
          <a:xfrm>
            <a:off x="366840" y="798480"/>
            <a:ext cx="2539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04560" y="1600200"/>
            <a:ext cx="8064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spcBef>
                <a:spcPts val="601"/>
              </a:spcBef>
              <a:buClr>
                <a:srgbClr val="00325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2" marL="1905120" indent="-378000">
              <a:spcBef>
                <a:spcPts val="601"/>
              </a:spcBef>
              <a:buClr>
                <a:srgbClr val="00325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3" marL="2662200" indent="-379440">
              <a:spcBef>
                <a:spcPts val="601"/>
              </a:spcBef>
              <a:buClr>
                <a:srgbClr val="00325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4" marL="3432240" indent="-379440">
              <a:spcBef>
                <a:spcPts val="601"/>
              </a:spcBef>
              <a:buClr>
                <a:srgbClr val="003258"/>
              </a:buClr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5" marL="3432240" indent="-379440">
              <a:spcBef>
                <a:spcPts val="601"/>
              </a:spcBef>
              <a:buClr>
                <a:srgbClr val="003258"/>
              </a:buClr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6" marL="3432240" indent="-379440">
              <a:spcBef>
                <a:spcPts val="601"/>
              </a:spcBef>
              <a:buClr>
                <a:srgbClr val="003258"/>
              </a:buClr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09487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3" name="txtHeaderSecClass"/>
          <p:cNvSpPr/>
          <p:nvPr/>
        </p:nvSpPr>
        <p:spPr>
          <a:xfrm>
            <a:off x="366840" y="798480"/>
            <a:ext cx="2539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4" name="txtHeaderSecClass"/>
          <p:cNvSpPr/>
          <p:nvPr/>
        </p:nvSpPr>
        <p:spPr>
          <a:xfrm>
            <a:off x="366840" y="798480"/>
            <a:ext cx="2539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5" name="txtHeaderSecClass"/>
          <p:cNvSpPr/>
          <p:nvPr/>
        </p:nvSpPr>
        <p:spPr>
          <a:xfrm>
            <a:off x="366840" y="798480"/>
            <a:ext cx="2539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6" name="txtHeaderSecClass"/>
          <p:cNvSpPr/>
          <p:nvPr/>
        </p:nvSpPr>
        <p:spPr>
          <a:xfrm>
            <a:off x="366840" y="798480"/>
            <a:ext cx="2539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7" name="Line"/>
          <p:cNvSpPr/>
          <p:nvPr/>
        </p:nvSpPr>
        <p:spPr>
          <a:xfrm>
            <a:off x="0" y="6567480"/>
            <a:ext cx="9144000" cy="0"/>
          </a:xfrm>
          <a:prstGeom prst="line">
            <a:avLst/>
          </a:prstGeom>
          <a:ln w="38160">
            <a:solidFill>
              <a:srgbClr val="a6a1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8" name="RightInfo"/>
          <p:cNvSpPr/>
          <p:nvPr/>
        </p:nvSpPr>
        <p:spPr>
          <a:xfrm>
            <a:off x="9144000" y="0"/>
            <a:ext cx="1685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op right       corner  for        field-mark, customer or partner logotypes.     See Best practice for example.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9" name="LeftInfo"/>
          <p:cNvSpPr/>
          <p:nvPr/>
        </p:nvSpPr>
        <p:spPr>
          <a:xfrm>
            <a:off x="-2182680" y="0"/>
            <a:ext cx="218268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title 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0 pt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subtitle 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4 pt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4 pt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ullets level 2-5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 pt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</p:txBody>
      </p:sp>
      <p:pic>
        <p:nvPicPr>
          <p:cNvPr id="10" name="SmallBlue" descr=""/>
          <p:cNvPicPr/>
          <p:nvPr/>
        </p:nvPicPr>
        <p:blipFill>
          <a:blip r:embed="rId2"/>
          <a:stretch/>
        </p:blipFill>
        <p:spPr>
          <a:xfrm>
            <a:off x="8231040" y="6626160"/>
            <a:ext cx="652680" cy="169920"/>
          </a:xfrm>
          <a:prstGeom prst="rect">
            <a:avLst/>
          </a:prstGeom>
          <a:ln w="0">
            <a:noFill/>
          </a:ln>
        </p:spPr>
      </p:pic>
      <p:pic>
        <p:nvPicPr>
          <p:cNvPr id="11" name="SmallWhite" descr=""/>
          <p:cNvPicPr/>
          <p:nvPr/>
        </p:nvPicPr>
        <p:blipFill>
          <a:blip r:embed="rId3"/>
          <a:stretch/>
        </p:blipFill>
        <p:spPr>
          <a:xfrm>
            <a:off x="8196120" y="6607080"/>
            <a:ext cx="776520" cy="201600"/>
          </a:xfrm>
          <a:prstGeom prst="rect">
            <a:avLst/>
          </a:prstGeom>
          <a:ln w="0">
            <a:noFill/>
          </a:ln>
        </p:spPr>
      </p:pic>
      <p:sp>
        <p:nvSpPr>
          <p:cNvPr id="12" name=""/>
          <p:cNvSpPr/>
          <p:nvPr/>
        </p:nvSpPr>
        <p:spPr>
          <a:xfrm>
            <a:off x="7602840" y="65977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0C6DBFDC-EBFE-4C00-A65D-484EDAD52FF9}" type="slidenum">
              <a:rPr b="0" lang="en-US" sz="1000" spc="-1" strike="noStrike">
                <a:solidFill>
                  <a:srgbClr val="645a5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0" y="66135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45a59"/>
                </a:solidFill>
                <a:latin typeface="Arial"/>
              </a:rPr>
              <a:t>Anders Ekholm, Ericsson &amp; Mike LaBonte, Cisco Systems</a:t>
            </a:r>
            <a:endParaRPr b="0" lang="en-US" sz="1000" spc="-1" strike="noStrike">
              <a:solidFill>
                <a:srgbClr val="00325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6360" y="2774520"/>
            <a:ext cx="8531280" cy="85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258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52" name="LeftInfo"/>
          <p:cNvSpPr/>
          <p:nvPr/>
        </p:nvSpPr>
        <p:spPr>
          <a:xfrm>
            <a:off x="-2182680" y="0"/>
            <a:ext cx="2182680" cy="50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title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 CAPITALS 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0 pt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subtitle 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2 pt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144000" y="-79200"/>
            <a:ext cx="1685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25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258"/>
              </a:solidFill>
              <a:latin typeface="Arial"/>
            </a:endParaRPr>
          </a:p>
          <a:p>
            <a:pPr lvl="1" marL="449280" indent="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2" marL="900000" indent="627120" algn="ctr">
              <a:buClr>
                <a:srgbClr val="003258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3" marL="1349280" indent="933480" algn="ctr">
              <a:buClr>
                <a:srgbClr val="003258"/>
              </a:buClr>
              <a:buFont typeface="Times New Roman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4" marL="1828800" indent="1224000" algn="ctr">
              <a:buClr>
                <a:srgbClr val="003258"/>
              </a:buClr>
              <a:buFont typeface="Times New Roman"/>
              <a:buChar char="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5" marL="1828800" indent="1224000">
              <a:spcBef>
                <a:spcPts val="499"/>
              </a:spcBef>
              <a:buClr>
                <a:srgbClr val="003258"/>
              </a:buClr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6" marL="1828800" indent="1224000">
              <a:spcBef>
                <a:spcPts val="499"/>
              </a:spcBef>
              <a:buClr>
                <a:srgbClr val="003258"/>
              </a:buClr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vhdl.org/pub/ibis/quality_wip" TargetMode="External"/><Relationship Id="rId2" Type="http://schemas.openxmlformats.org/officeDocument/2006/relationships/hyperlink" Target="http://www.vhdl.org/pub/ibis/quality_wip" TargetMode="External"/><Relationship Id="rId3" Type="http://schemas.openxmlformats.org/officeDocument/2006/relationships/hyperlink" Target="http://www.freelists.org/list/ibis-quality" TargetMode="External"/><Relationship Id="rId4" Type="http://schemas.openxmlformats.org/officeDocument/2006/relationships/hyperlink" Target="http://www.freelists.org/list/ibis-quality" TargetMode="External"/><Relationship Id="rId5" Type="http://schemas.openxmlformats.org/officeDocument/2006/relationships/hyperlink" Target="http://www.freelists.org/list/ibis-quality" TargetMode="Externa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41280" y="929880"/>
            <a:ext cx="8531280" cy="85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3258"/>
                </a:solidFill>
                <a:latin typeface="Arial"/>
              </a:rPr>
              <a:t>IBIS Quality Review</a:t>
            </a:r>
            <a:endParaRPr b="0" lang="en-US" sz="49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0" y="3844440"/>
            <a:ext cx="91440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258"/>
                </a:solidFill>
                <a:latin typeface="Arial"/>
              </a:rPr>
              <a:t>Asian IBIS Summit, Tokyo, Japan</a:t>
            </a:r>
            <a:endParaRPr b="0" lang="en-US" sz="3200" spc="-1" strike="noStrike">
              <a:solidFill>
                <a:srgbClr val="003258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258"/>
                </a:solidFill>
                <a:latin typeface="Arial"/>
              </a:rPr>
              <a:t>November 6, 2009</a:t>
            </a:r>
            <a:endParaRPr b="0" lang="en-US" sz="3200" spc="-1" strike="noStrike">
              <a:solidFill>
                <a:srgbClr val="003258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258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3258"/>
                </a:solidFill>
                <a:latin typeface="Arial"/>
              </a:rPr>
              <a:t>(Previously presented in China, November 4, 2009)</a:t>
            </a: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6120" y="5653080"/>
            <a:ext cx="8531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5a59"/>
                </a:solidFill>
                <a:latin typeface="Arial"/>
              </a:rPr>
              <a:t>Anders Ekholm, Ericsson &amp; Mike LaBonte, Cisco Systems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5360" y="2004840"/>
            <a:ext cx="8531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5a59"/>
                </a:solidFill>
                <a:latin typeface="Arial"/>
              </a:rPr>
              <a:t>A status review of the IBIS Quality specification</a:t>
            </a:r>
            <a:endParaRPr b="0" lang="en-US" sz="3200" spc="-1" strike="noStrike">
              <a:solidFill>
                <a:srgbClr val="00325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65556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5a59"/>
                </a:solidFill>
                <a:latin typeface="Arial"/>
              </a:rPr>
              <a:t>Level 4 (Power) Checks for future releases</a:t>
            </a:r>
            <a:endParaRPr b="0" lang="en-US" sz="32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527040" y="1698480"/>
            <a:ext cx="794052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marL="236520" indent="-236520">
              <a:lnSpc>
                <a:spcPct val="120000"/>
              </a:lnSpc>
              <a:spcBef>
                <a:spcPts val="499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A [Pin Mapping] Complete and Correct check was proposed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499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Power analysis really needs new features: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858960" indent="-284400">
              <a:lnSpc>
                <a:spcPct val="120000"/>
              </a:lnSpc>
              <a:spcBef>
                <a:spcPts val="224"/>
              </a:spcBef>
              <a:buClr>
                <a:srgbClr val="003258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BIRD95 - Power Integrity Analysis using IBIS</a:t>
            </a:r>
            <a:endParaRPr b="0" lang="en-US" sz="1800" spc="-1" strike="noStrike">
              <a:solidFill>
                <a:srgbClr val="003258"/>
              </a:solidFill>
              <a:latin typeface="Times New Roman"/>
            </a:endParaRPr>
          </a:p>
          <a:p>
            <a:pPr lvl="1" marL="858960" indent="-284400">
              <a:lnSpc>
                <a:spcPct val="120000"/>
              </a:lnSpc>
              <a:spcBef>
                <a:spcPts val="224"/>
              </a:spcBef>
              <a:buClr>
                <a:srgbClr val="003258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BIRD98 - Gate Modulation Effect (table format)</a:t>
            </a:r>
            <a:endParaRPr b="0" lang="en-US" sz="18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499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IBIS 5.0 adoption still in progress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858960" indent="-284400">
              <a:lnSpc>
                <a:spcPct val="120000"/>
              </a:lnSpc>
              <a:spcBef>
                <a:spcPts val="224"/>
              </a:spcBef>
              <a:buClr>
                <a:srgbClr val="003258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IBIS 5.1 may be submitted for EIA/ANSI standardization</a:t>
            </a:r>
            <a:endParaRPr b="0" lang="en-US" sz="1800" spc="-1" strike="noStrike">
              <a:solidFill>
                <a:srgbClr val="003258"/>
              </a:solidFill>
              <a:latin typeface="Times New Roman"/>
            </a:endParaRPr>
          </a:p>
          <a:p>
            <a:pPr lvl="1" marL="858960" indent="-284400">
              <a:lnSpc>
                <a:spcPct val="120000"/>
              </a:lnSpc>
              <a:spcBef>
                <a:spcPts val="224"/>
              </a:spcBef>
              <a:buClr>
                <a:srgbClr val="003258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IBISCHK 5.0 parser released October 2009</a:t>
            </a:r>
            <a:endParaRPr b="0" lang="en-US" sz="1800" spc="-1" strike="noStrike">
              <a:solidFill>
                <a:srgbClr val="003258"/>
              </a:solidFill>
              <a:latin typeface="Times New Roman"/>
            </a:endParaRPr>
          </a:p>
          <a:p>
            <a:pPr lvl="1" marL="858960" indent="-284400">
              <a:lnSpc>
                <a:spcPct val="120000"/>
              </a:lnSpc>
              <a:spcBef>
                <a:spcPts val="224"/>
              </a:spcBef>
              <a:buClr>
                <a:srgbClr val="003258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Have not yet seen IBIS 5.0 power keywords in IBIS files</a:t>
            </a:r>
            <a:endParaRPr b="0" lang="en-US" sz="18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499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Level 4 checks are planned for future IQ 2.x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65556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5a59"/>
                </a:solidFill>
                <a:latin typeface="Arial"/>
              </a:rPr>
              <a:t>Notes on IQ Version 2.0</a:t>
            </a:r>
            <a:endParaRPr b="0" lang="en-US" sz="40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620640" y="1521000"/>
            <a:ext cx="7975800" cy="41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Possible Errors” section removed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2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Some items made into regular checks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Correlation” section minimized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2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Refers to IBIS Accuracy Handbook for details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IC vendor push-back on overshoot parameters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2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Not many IBIS files have this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2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Buffer developers simply do not measure it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2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Difference between functional and destruction limits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2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BIRD103 D_overshoot parameters may work better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85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85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65556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5a59"/>
                </a:solidFill>
                <a:latin typeface="Arial"/>
              </a:rPr>
              <a:t>IQ Version 2.0 Status</a:t>
            </a:r>
            <a:endParaRPr b="0" lang="en-US" sz="36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655560" y="1521000"/>
            <a:ext cx="7940880" cy="35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44 draft revisions posted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In review phase for IBIS Open Forum acceptance vote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2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Review phase in 3 consecutive Open Forum meetings.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2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Acceptance vote scheduled for October 30, 2009.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3"/>
          <p:cNvSpPr/>
          <p:nvPr/>
        </p:nvSpPr>
        <p:spPr>
          <a:xfrm>
            <a:off x="65556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5a59"/>
                </a:solidFill>
                <a:latin typeface="Arial"/>
              </a:rPr>
              <a:t>After Version 2.0</a:t>
            </a:r>
            <a:endParaRPr b="0" lang="en-US" sz="40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29" name="Rectangle 24"/>
          <p:cNvSpPr/>
          <p:nvPr/>
        </p:nvSpPr>
        <p:spPr>
          <a:xfrm>
            <a:off x="655560" y="1521000"/>
            <a:ext cx="7940880" cy="35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File parser bug reports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Update the IBIS Accuracy Handbook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2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Emphasis on feature-selective correlation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Begin drafting IQ 2.x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2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Level 4 power analysis checks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8"/>
          <p:cNvSpPr/>
          <p:nvPr/>
        </p:nvSpPr>
        <p:spPr>
          <a:xfrm>
            <a:off x="638280" y="549360"/>
            <a:ext cx="8145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5a59"/>
                </a:solidFill>
                <a:latin typeface="Arial"/>
              </a:rPr>
              <a:t>Regular 2009 IQ Meeting Participants</a:t>
            </a:r>
            <a:endParaRPr b="0" lang="en-US" sz="36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655560" y="1521000"/>
            <a:ext cx="7940880" cy="47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Cisco Systems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Ericsson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Huawei Technologies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Micron Technology *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Nokia Siemens Networks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Texas Instruments *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Teraspeed Consulting Group *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Xilinx *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5714280" y="5997600"/>
            <a:ext cx="294480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* IBIS model makers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645a59"/>
                </a:solidFill>
                <a:latin typeface="Arial"/>
              </a:rPr>
              <a:t>Future IQ expectations</a:t>
            </a: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064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3258"/>
                </a:solidFill>
                <a:latin typeface="Arial"/>
              </a:rPr>
              <a:t>IQ adoption by IC vendors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3258"/>
                </a:solidFill>
                <a:latin typeface="Arial"/>
              </a:rPr>
              <a:t>Adoption by library flow in system companies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3258"/>
                </a:solidFill>
                <a:latin typeface="Arial"/>
              </a:rPr>
              <a:t>IBIS modeling tools implementing the IQ checks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LargeBlue" descr="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  <p:pic>
        <p:nvPicPr>
          <p:cNvPr id="136" name="LargeTakeBlue" descr=""/>
          <p:cNvPicPr/>
          <p:nvPr/>
        </p:nvPicPr>
        <p:blipFill>
          <a:blip r:embed="rId2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  <p:pic>
        <p:nvPicPr>
          <p:cNvPr id="137" name="LargeWhite" descr=""/>
          <p:cNvPicPr/>
          <p:nvPr/>
        </p:nvPicPr>
        <p:blipFill>
          <a:blip r:embed="rId3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  <p:pic>
        <p:nvPicPr>
          <p:cNvPr id="138" name="LargeTakeWhite" descr=""/>
          <p:cNvPicPr/>
          <p:nvPr/>
        </p:nvPicPr>
        <p:blipFill>
          <a:blip r:embed="rId4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28"/>
          <p:cNvSpPr/>
          <p:nvPr/>
        </p:nvSpPr>
        <p:spPr>
          <a:xfrm>
            <a:off x="65556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5a59"/>
                </a:solidFill>
                <a:latin typeface="Arial"/>
              </a:rPr>
              <a:t>IBIS Quality Task Group</a:t>
            </a:r>
            <a:endParaRPr b="0" lang="en-US" sz="40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96" name="Rectangle 129"/>
          <p:cNvSpPr/>
          <p:nvPr/>
        </p:nvSpPr>
        <p:spPr>
          <a:xfrm>
            <a:off x="655560" y="1521000"/>
            <a:ext cx="7940880" cy="41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3258"/>
                </a:solidFill>
                <a:latin typeface="Arial"/>
              </a:rPr>
              <a:t>Web: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85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94d2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000" spc="-1" strike="noStrike" u="sng">
                <a:solidFill>
                  <a:srgbClr val="0094d2"/>
                </a:solidFill>
                <a:uFillTx/>
                <a:latin typeface="Arial"/>
                <a:hlinkClick r:id="rId2"/>
              </a:rPr>
              <a:t>www.vhdl.org/pub/ibis/quality_wip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85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3258"/>
                </a:solidFill>
                <a:latin typeface="Arial"/>
              </a:rPr>
              <a:t>Email list: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85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94d2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2000" spc="-1" strike="noStrike" u="sng">
                <a:solidFill>
                  <a:srgbClr val="0094d2"/>
                </a:solidFill>
                <a:uFillTx/>
                <a:latin typeface="Arial"/>
                <a:hlinkClick r:id="rId4"/>
              </a:rPr>
              <a:t>www.freelists.org</a:t>
            </a:r>
            <a:r>
              <a:rPr b="0" lang="en-US" sz="2000" spc="-1" strike="noStrike" u="sng">
                <a:solidFill>
                  <a:srgbClr val="0094d2"/>
                </a:solidFill>
                <a:uFillTx/>
                <a:latin typeface="Arial"/>
                <a:hlinkClick r:id="rId5"/>
              </a:rPr>
              <a:t>/list/ibis-quality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85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258"/>
                </a:solidFill>
                <a:latin typeface="Arial"/>
              </a:rPr>
              <a:t>Or send email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85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258"/>
                </a:solidFill>
                <a:latin typeface="Arial"/>
              </a:rPr>
              <a:t>To: ibis-quality-request@freelists.org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85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258"/>
                </a:solidFill>
                <a:latin typeface="Arial"/>
              </a:rPr>
              <a:t>Subject: subscribe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85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3258"/>
                </a:solidFill>
                <a:latin typeface="Arial"/>
              </a:rPr>
              <a:t>Meetings: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85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258"/>
                </a:solidFill>
                <a:latin typeface="Arial"/>
              </a:rPr>
              <a:t>Tuesdays from 11:00am to 12:00pm Eastern Time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85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3258"/>
                </a:solidFill>
                <a:latin typeface="Arial"/>
              </a:rPr>
              <a:t>Questions? Mike LaBonte milabont@cisco.com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65556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5a59"/>
                </a:solidFill>
                <a:latin typeface="Arial"/>
              </a:rPr>
              <a:t>Brief History</a:t>
            </a:r>
            <a:r>
              <a:rPr b="0" lang="en-US" sz="4000" spc="-1" strike="noStrike">
                <a:solidFill>
                  <a:srgbClr val="a09487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490680" y="1521000"/>
            <a:ext cx="8291520" cy="42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marL="236520" indent="-236520">
              <a:lnSpc>
                <a:spcPct val="120000"/>
              </a:lnSpc>
              <a:spcBef>
                <a:spcPts val="499"/>
              </a:spcBef>
              <a:buClr>
                <a:srgbClr val="0094d2"/>
              </a:buClr>
              <a:buFont typeface="Wingdings" charset="2"/>
              <a:buChar char=""/>
              <a:tabLst>
                <a:tab algn="l" pos="223848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2002 March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- Barry Katz started IBIS-Quality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499"/>
              </a:spcBef>
              <a:buClr>
                <a:srgbClr val="0094d2"/>
              </a:buClr>
              <a:buFont typeface="Wingdings" charset="2"/>
              <a:buChar char=""/>
              <a:tabLst>
                <a:tab algn="l" pos="223848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2004 November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- IQ 1.0 specification completed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499"/>
              </a:spcBef>
              <a:buClr>
                <a:srgbClr val="0094d2"/>
              </a:buClr>
              <a:buFont typeface="Wingdings" charset="2"/>
              <a:buChar char=""/>
              <a:tabLst>
                <a:tab algn="l" pos="223848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2005 August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- Parser bug 90 submitted and approved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499"/>
              </a:spcBef>
              <a:buClr>
                <a:srgbClr val="0094d2"/>
              </a:buClr>
              <a:buFont typeface="Wingdings" charset="2"/>
              <a:buChar char=""/>
              <a:tabLst>
                <a:tab algn="l" pos="223848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2006 March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- Parser bug 94 submitted and approved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499"/>
              </a:spcBef>
              <a:buClr>
                <a:srgbClr val="0094d2"/>
              </a:buClr>
              <a:buFont typeface="Wingdings" charset="2"/>
              <a:buChar char=""/>
              <a:tabLst>
                <a:tab algn="l" pos="223848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2006 April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- Book “Semiconductor Modeling” discusses IQ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23848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(Roy Leventhal, Lynne Green)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499"/>
              </a:spcBef>
              <a:buClr>
                <a:srgbClr val="0094d2"/>
              </a:buClr>
              <a:buFont typeface="Wingdings" charset="2"/>
              <a:buChar char=""/>
              <a:tabLst>
                <a:tab algn="l" pos="223848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2006 August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- IQ 1.1 specification initiated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499"/>
              </a:spcBef>
              <a:buClr>
                <a:srgbClr val="0094d2"/>
              </a:buClr>
              <a:buFont typeface="Wingdings" charset="2"/>
              <a:buChar char=""/>
              <a:tabLst>
                <a:tab algn="l" pos="223848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sv-SE" sz="2000" spc="-1" strike="noStrike">
                <a:solidFill>
                  <a:srgbClr val="003258"/>
                </a:solidFill>
                <a:latin typeface="Arial"/>
              </a:rPr>
              <a:t>2009 August</a:t>
            </a:r>
            <a:r>
              <a:rPr b="0" lang="sv-SE" sz="20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sv-SE" sz="2000" spc="-1" strike="noStrike">
                <a:solidFill>
                  <a:srgbClr val="003258"/>
                </a:solidFill>
                <a:latin typeface="Arial"/>
              </a:rPr>
              <a:t>- IQ 1.1 renamed IQ 2.0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499"/>
              </a:spcBef>
              <a:buClr>
                <a:srgbClr val="0094d2"/>
              </a:buClr>
              <a:buFont typeface="Wingdings" charset="2"/>
              <a:buChar char=""/>
              <a:tabLst>
                <a:tab algn="l" pos="223848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2009 October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- IQ 2.0 approval expected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65556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5a59"/>
                </a:solidFill>
                <a:latin typeface="Arial"/>
              </a:rPr>
              <a:t>Specification Version 1.0</a:t>
            </a:r>
            <a:endParaRPr b="0" lang="en-US" sz="40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655560" y="1521000"/>
            <a:ext cx="7940880" cy="45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134136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IBIS Quality Levels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2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134136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Can be checked by IBISCHK, plus a few others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2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134136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Correctness, completeness, and simulation checks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2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134136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2a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Simulation correlated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2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134136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2b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Bench measurement correlated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2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134136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Simulation and measurement correlated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34136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65556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5a59"/>
                </a:solidFill>
                <a:latin typeface="Arial"/>
              </a:rPr>
              <a:t>Issues with IQ Version 1.0</a:t>
            </a:r>
            <a:endParaRPr b="0" lang="en-US" sz="40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612720" y="1521000"/>
            <a:ext cx="7983720" cy="43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Passing IQ Level 0 does not sound like much of an accomplishment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2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Is a non-compliant file level -1?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There should be a strict level for “Passes IBISCHK”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No other IQ check should duplicate IBISCHK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Can’t have a correlated model without full IQ check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Some checks are weak (“should” vs. “must”)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Feedback from JEITA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65556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5a59"/>
                </a:solidFill>
                <a:latin typeface="Arial"/>
              </a:rPr>
              <a:t>Specification Version 2.0</a:t>
            </a:r>
            <a:endParaRPr b="0" lang="en-US" sz="40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655560" y="1521000"/>
            <a:ext cx="7940880" cy="45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marL="236520" indent="-236520">
              <a:lnSpc>
                <a:spcPct val="10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IBIS Quality Levels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0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IQ0      Not Checked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0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IQ1      Passes IBISCHK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0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IQ2      Suitable for Waveform Simulation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0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IQ3      Suitable for Timing Analysis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0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IQ4      Suitable for Power Analysis * (defined, but no checks)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0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Special Designators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0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S         Simulation correlated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0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M        Measurement correlated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0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X         Exceptions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0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G         Has Golden Waveforms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</p:txBody>
      </p:sp>
      <p:grpSp>
        <p:nvGrpSpPr>
          <p:cNvPr id="105" name="Group 4"/>
          <p:cNvGrpSpPr/>
          <p:nvPr/>
        </p:nvGrpSpPr>
        <p:grpSpPr>
          <a:xfrm>
            <a:off x="6484320" y="4278240"/>
            <a:ext cx="1727280" cy="1690920"/>
            <a:chOff x="6484320" y="4278240"/>
            <a:chExt cx="1727280" cy="1690920"/>
          </a:xfrm>
        </p:grpSpPr>
        <p:sp>
          <p:nvSpPr>
            <p:cNvPr id="106" name="Freeform 5"/>
            <p:cNvSpPr/>
            <p:nvPr/>
          </p:nvSpPr>
          <p:spPr>
            <a:xfrm>
              <a:off x="6485040" y="4325760"/>
              <a:ext cx="1473120" cy="1409760"/>
            </a:xfrm>
            <a:custGeom>
              <a:avLst/>
              <a:gdLst>
                <a:gd name="textAreaLeft" fmla="*/ 0 w 1473120"/>
                <a:gd name="textAreaRight" fmla="*/ 1473480 w 1473120"/>
                <a:gd name="textAreaTop" fmla="*/ 0 h 1409760"/>
                <a:gd name="textAreaBottom" fmla="*/ 1409760 h 1409760"/>
              </a:gdLst>
              <a:ahLst/>
              <a:rect l="textAreaLeft" t="textAreaTop" r="textAreaRight" b="textAreaBottom"/>
              <a:pathLst>
                <a:path w="928" h="888">
                  <a:moveTo>
                    <a:pt x="240" y="736"/>
                  </a:moveTo>
                  <a:cubicBezTo>
                    <a:pt x="184" y="712"/>
                    <a:pt x="120" y="648"/>
                    <a:pt x="96" y="592"/>
                  </a:cubicBezTo>
                  <a:cubicBezTo>
                    <a:pt x="72" y="536"/>
                    <a:pt x="112" y="448"/>
                    <a:pt x="96" y="400"/>
                  </a:cubicBezTo>
                  <a:cubicBezTo>
                    <a:pt x="80" y="352"/>
                    <a:pt x="0" y="360"/>
                    <a:pt x="0" y="304"/>
                  </a:cubicBezTo>
                  <a:cubicBezTo>
                    <a:pt x="0" y="248"/>
                    <a:pt x="16" y="112"/>
                    <a:pt x="96" y="64"/>
                  </a:cubicBezTo>
                  <a:cubicBezTo>
                    <a:pt x="176" y="16"/>
                    <a:pt x="368" y="0"/>
                    <a:pt x="480" y="16"/>
                  </a:cubicBezTo>
                  <a:cubicBezTo>
                    <a:pt x="592" y="32"/>
                    <a:pt x="704" y="96"/>
                    <a:pt x="768" y="160"/>
                  </a:cubicBezTo>
                  <a:cubicBezTo>
                    <a:pt x="832" y="224"/>
                    <a:pt x="840" y="312"/>
                    <a:pt x="864" y="400"/>
                  </a:cubicBezTo>
                  <a:cubicBezTo>
                    <a:pt x="888" y="488"/>
                    <a:pt x="928" y="608"/>
                    <a:pt x="912" y="688"/>
                  </a:cubicBezTo>
                  <a:cubicBezTo>
                    <a:pt x="896" y="768"/>
                    <a:pt x="816" y="872"/>
                    <a:pt x="768" y="880"/>
                  </a:cubicBezTo>
                  <a:cubicBezTo>
                    <a:pt x="720" y="888"/>
                    <a:pt x="680" y="760"/>
                    <a:pt x="624" y="736"/>
                  </a:cubicBezTo>
                  <a:cubicBezTo>
                    <a:pt x="568" y="712"/>
                    <a:pt x="496" y="736"/>
                    <a:pt x="432" y="736"/>
                  </a:cubicBezTo>
                  <a:cubicBezTo>
                    <a:pt x="368" y="736"/>
                    <a:pt x="296" y="760"/>
                    <a:pt x="240" y="736"/>
                  </a:cubicBezTo>
                  <a:close/>
                </a:path>
              </a:pathLst>
            </a:custGeom>
            <a:solidFill>
              <a:srgbClr val="457346"/>
            </a:solidFill>
            <a:ln w="9360">
              <a:solidFill>
                <a:srgbClr val="a0948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endParaRPr b="0" lang="en-US" sz="2400" spc="-1" strike="noStrike">
                <a:solidFill>
                  <a:srgbClr val="003258"/>
                </a:solidFill>
                <a:latin typeface="Times New Roman"/>
              </a:endParaRPr>
            </a:p>
          </p:txBody>
        </p:sp>
        <p:sp>
          <p:nvSpPr>
            <p:cNvPr id="107" name="Text Box 6"/>
            <p:cNvSpPr/>
            <p:nvPr/>
          </p:nvSpPr>
          <p:spPr>
            <a:xfrm>
              <a:off x="6712920" y="4859280"/>
              <a:ext cx="65700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Q0</a:t>
              </a:r>
              <a:endParaRPr b="0" lang="en-US" sz="2400" spc="-1" strike="noStrike">
                <a:solidFill>
                  <a:srgbClr val="003258"/>
                </a:solidFill>
                <a:latin typeface="Times New Roman"/>
              </a:endParaRPr>
            </a:p>
          </p:txBody>
        </p:sp>
        <p:sp>
          <p:nvSpPr>
            <p:cNvPr id="108" name="Text Box 7"/>
            <p:cNvSpPr/>
            <p:nvPr/>
          </p:nvSpPr>
          <p:spPr>
            <a:xfrm>
              <a:off x="7246440" y="4782960"/>
              <a:ext cx="65700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Q3</a:t>
              </a:r>
              <a:endParaRPr b="0" lang="en-US" sz="2400" spc="-1" strike="noStrike">
                <a:solidFill>
                  <a:srgbClr val="003258"/>
                </a:solidFill>
                <a:latin typeface="Times New Roman"/>
              </a:endParaRPr>
            </a:p>
          </p:txBody>
        </p:sp>
        <p:sp>
          <p:nvSpPr>
            <p:cNvPr id="109" name="Text Box 8"/>
            <p:cNvSpPr/>
            <p:nvPr/>
          </p:nvSpPr>
          <p:spPr>
            <a:xfrm>
              <a:off x="6971760" y="4448160"/>
              <a:ext cx="65700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Q2</a:t>
              </a:r>
              <a:endParaRPr b="0" lang="en-US" sz="2400" spc="-1" strike="noStrike">
                <a:solidFill>
                  <a:srgbClr val="003258"/>
                </a:solidFill>
                <a:latin typeface="Times New Roman"/>
              </a:endParaRPr>
            </a:p>
          </p:txBody>
        </p:sp>
        <p:sp>
          <p:nvSpPr>
            <p:cNvPr id="110" name="Text Box 9"/>
            <p:cNvSpPr/>
            <p:nvPr/>
          </p:nvSpPr>
          <p:spPr>
            <a:xfrm>
              <a:off x="6484320" y="4554360"/>
              <a:ext cx="65700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Q1</a:t>
              </a:r>
              <a:endParaRPr b="0" lang="en-US" sz="2400" spc="-1" strike="noStrike">
                <a:solidFill>
                  <a:srgbClr val="003258"/>
                </a:solidFill>
                <a:latin typeface="Times New Roman"/>
              </a:endParaRPr>
            </a:p>
          </p:txBody>
        </p:sp>
        <p:sp>
          <p:nvSpPr>
            <p:cNvPr id="111" name="Text Box 10"/>
            <p:cNvSpPr/>
            <p:nvPr/>
          </p:nvSpPr>
          <p:spPr>
            <a:xfrm>
              <a:off x="7170120" y="5087880"/>
              <a:ext cx="65700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Q4</a:t>
              </a:r>
              <a:endParaRPr b="0" lang="en-US" sz="2400" spc="-1" strike="noStrike">
                <a:solidFill>
                  <a:srgbClr val="003258"/>
                </a:solidFill>
                <a:latin typeface="Times New Roman"/>
              </a:endParaRPr>
            </a:p>
          </p:txBody>
        </p:sp>
        <p:sp>
          <p:nvSpPr>
            <p:cNvPr id="112" name="Text Box 11"/>
            <p:cNvSpPr/>
            <p:nvPr/>
          </p:nvSpPr>
          <p:spPr>
            <a:xfrm>
              <a:off x="7647120" y="4278240"/>
              <a:ext cx="41940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2400" spc="-1" strike="noStrike">
                  <a:solidFill>
                    <a:srgbClr val="ff4500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3258"/>
                </a:solidFill>
                <a:latin typeface="Times New Roman"/>
              </a:endParaRPr>
            </a:p>
          </p:txBody>
        </p:sp>
        <p:sp>
          <p:nvSpPr>
            <p:cNvPr id="113" name="Text Box 12"/>
            <p:cNvSpPr/>
            <p:nvPr/>
          </p:nvSpPr>
          <p:spPr>
            <a:xfrm>
              <a:off x="7844040" y="4838760"/>
              <a:ext cx="36756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2400" spc="-1" strike="noStrike">
                  <a:solidFill>
                    <a:srgbClr val="ff45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3258"/>
                </a:solidFill>
                <a:latin typeface="Times New Roman"/>
              </a:endParaRPr>
            </a:p>
          </p:txBody>
        </p:sp>
        <p:sp>
          <p:nvSpPr>
            <p:cNvPr id="114" name="Text Box 13"/>
            <p:cNvSpPr/>
            <p:nvPr/>
          </p:nvSpPr>
          <p:spPr>
            <a:xfrm>
              <a:off x="7055280" y="5557680"/>
              <a:ext cx="36756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2400" spc="-1" strike="noStrike">
                  <a:solidFill>
                    <a:srgbClr val="ff45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325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65556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5a59"/>
                </a:solidFill>
                <a:latin typeface="Arial"/>
              </a:rPr>
              <a:t>The Only LEVEL 1 Check (IBISCHK)</a:t>
            </a:r>
            <a:endParaRPr b="0" lang="en-US" sz="32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287280" y="1333440"/>
            <a:ext cx="859176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3258"/>
                </a:solidFill>
                <a:latin typeface="Courier New"/>
              </a:rPr>
              <a:t>2.1 {LEVEL 1}  IBIS file passes IBISCHK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4960" y="1830240"/>
            <a:ext cx="823644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58"/>
                </a:solidFill>
                <a:latin typeface="Arial"/>
              </a:rPr>
              <a:t>Checking a123_test.ibs for IBIS 4.1 Compatibility...</a:t>
            </a: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58"/>
                </a:solidFill>
                <a:latin typeface="Arial"/>
              </a:rPr>
              <a:t>ERROR (line  446) - [Receiver Thresholds] should be specified immediately after all the</a:t>
            </a:r>
            <a:br>
              <a:rPr sz="1600"/>
            </a:br>
            <a:r>
              <a:rPr b="0" lang="en-US" sz="1600" spc="-1" strike="noStrike">
                <a:solidFill>
                  <a:srgbClr val="003258"/>
                </a:solidFill>
                <a:latin typeface="Arial"/>
              </a:rPr>
              <a:t>subparameters of a model and before the other keywords of a model except [Model Spec]</a:t>
            </a: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58"/>
                </a:solidFill>
                <a:latin typeface="Arial"/>
              </a:rPr>
              <a:t>ERROR - Model DQ_FULL Receiver Thresholds: Tslew_ac must be specified for single</a:t>
            </a:r>
            <a:br>
              <a:rPr sz="1600"/>
            </a:br>
            <a:r>
              <a:rPr b="0" lang="en-US" sz="1600" spc="-1" strike="noStrike">
                <a:solidFill>
                  <a:srgbClr val="003258"/>
                </a:solidFill>
                <a:latin typeface="Arial"/>
              </a:rPr>
              <a:t>ended receivers</a:t>
            </a: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58"/>
                </a:solidFill>
                <a:latin typeface="Arial"/>
              </a:rPr>
              <a:t>WARNING - Model DQ_HALF Pullup Typical data is non-monotonic</a:t>
            </a: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58"/>
                </a:solidFill>
                <a:latin typeface="Arial"/>
              </a:rPr>
              <a:t>WARNING - Model DQ_HALF Pulldown Minimum data is non-monotonic</a:t>
            </a: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58"/>
                </a:solidFill>
                <a:latin typeface="Arial"/>
              </a:rPr>
              <a:t>WARNING - Model DQ_HALF Pullup Minimum data is non-monotonic</a:t>
            </a: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58"/>
                </a:solidFill>
                <a:latin typeface="Arial"/>
              </a:rPr>
              <a:t>WARNING - Model DQ_HALF Pullup Maximum data is non-monotonic</a:t>
            </a: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58"/>
                </a:solidFill>
                <a:latin typeface="Arial"/>
              </a:rPr>
              <a:t>WARNING - Model DQ_FULL Pullup Typical data is non-monotonic</a:t>
            </a: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58"/>
                </a:solidFill>
                <a:latin typeface="Arial"/>
              </a:rPr>
              <a:t>Errors  : 2</a:t>
            </a: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58"/>
                </a:solidFill>
                <a:latin typeface="Arial"/>
              </a:rPr>
              <a:t>Warnings: 5</a:t>
            </a: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58"/>
                </a:solidFill>
                <a:latin typeface="Arial"/>
              </a:rPr>
              <a:t>File Failed</a:t>
            </a: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65556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5a59"/>
                </a:solidFill>
                <a:latin typeface="Arial"/>
              </a:rPr>
              <a:t>Example LEVEL 2 Checks (Waveforms)</a:t>
            </a:r>
            <a:endParaRPr b="0" lang="en-US" sz="32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1760" y="1603440"/>
            <a:ext cx="829152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5.3.7.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{LEVEL 2}  Combined I-V tables are monotonic</a:t>
            </a:r>
            <a:endParaRPr b="0" lang="en-US" sz="18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5.3.8.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{LEVEL 2}  [Pulldown] I-V tables pass through zero/zero</a:t>
            </a:r>
            <a:endParaRPr b="0" lang="en-US" sz="18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5.3.9.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{LEVEL 2}  [Pullup] I-V tables pass through zero/zeroI-V </a:t>
            </a:r>
            <a:endParaRPr b="0" lang="en-US" sz="18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5.3.10.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{LEVEL 2}  No leakage current in clamp tables</a:t>
            </a:r>
            <a:endParaRPr b="0" lang="en-US" sz="18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5.3.11.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{LEVEL 2}  I-V behavior not double-counted </a:t>
            </a:r>
            <a:endParaRPr b="0" lang="en-US" sz="1800" spc="-1" strike="noStrike">
              <a:solidFill>
                <a:srgbClr val="00325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65556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5a59"/>
                </a:solidFill>
                <a:latin typeface="Arial"/>
              </a:rPr>
              <a:t>Example LEVEL 3 Checks (Timing)</a:t>
            </a:r>
            <a:endParaRPr b="0" lang="en-US" sz="32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426960" y="1595520"/>
            <a:ext cx="812160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89676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3.2.2.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{LEVEL 3}  [Pin] RLC parasitics are present and reasonable</a:t>
            </a:r>
            <a:endParaRPr b="0" lang="en-US" sz="1800" spc="-1" strike="noStrike">
              <a:solidFill>
                <a:srgbClr val="003258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89676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3.3.1.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{LEVEL 3}  [Diff Pin] Vdiff and Tdelay_* complete and reasonable</a:t>
            </a:r>
            <a:endParaRPr b="0" lang="en-US" sz="1800" spc="-1" strike="noStrike">
              <a:solidFill>
                <a:srgbClr val="003258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89676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5.2.1.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{LEVEL 3}  [Model] Vinl and Vinh reasonable</a:t>
            </a:r>
            <a:endParaRPr b="0" lang="en-US" sz="1800" spc="-1" strike="noStrike">
              <a:solidFill>
                <a:srgbClr val="003258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89676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5.2.2.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{LEVEL 3}  [Model Spec] Vinl and Vinh reasonable</a:t>
            </a:r>
            <a:r>
              <a:rPr b="0" lang="en-US" sz="1800" spc="-1" strike="noStrike" u="sng">
                <a:solidFill>
                  <a:srgbClr val="003258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325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21:20:03Z</dcterms:created>
  <dc:creator>Anders Ekholm</dc:creator>
  <dc:description>Rev PA1</dc:description>
  <cp:keywords>IBIS SUMMIT 2009 ASIA</cp:keywords>
  <dc:language>en-US</dc:language>
  <cp:lastModifiedBy>Bob Ross</cp:lastModifiedBy>
  <dcterms:modified xsi:type="dcterms:W3CDTF">2009-10-01T21:17:56Z</dcterms:modified>
  <cp:revision>83</cp:revision>
  <dc:subject/>
  <dc:title>IBIS Quality Revie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edBy">
    <vt:lpwstr/>
  </property>
  <property fmtid="{D5CDD505-2E9C-101B-9397-08002B2CF9AE}" pid="3" name="Checked">
    <vt:lpwstr/>
  </property>
  <property fmtid="{D5CDD505-2E9C-101B-9397-08002B2CF9AE}" pid="4" name="Date">
    <vt:lpwstr>2009-09-25</vt:lpwstr>
  </property>
  <property fmtid="{D5CDD505-2E9C-101B-9397-08002B2CF9AE}" pid="5" name="DocName">
    <vt:lpwstr/>
  </property>
  <property fmtid="{D5CDD505-2E9C-101B-9397-08002B2CF9AE}" pid="6" name="DocNo">
    <vt:lpwstr/>
  </property>
  <property fmtid="{D5CDD505-2E9C-101B-9397-08002B2CF9AE}" pid="7" name="DocumentType">
    <vt:lpwstr>OHLogoNew2004</vt:lpwstr>
  </property>
  <property fmtid="{D5CDD505-2E9C-101B-9397-08002B2CF9AE}" pid="8" name="DocumentType2">
    <vt:lpwstr>OHLogoNew2004</vt:lpwstr>
  </property>
  <property fmtid="{D5CDD505-2E9C-101B-9397-08002B2CF9AE}" pid="9" name="FooterType">
    <vt:lpwstr>CVL</vt:lpwstr>
  </property>
  <property fmtid="{D5CDD505-2E9C-101B-9397-08002B2CF9AE}" pid="10" name="Keyword">
    <vt:lpwstr>IBIS SUMMIT 2009 ASIA</vt:lpwstr>
  </property>
  <property fmtid="{D5CDD505-2E9C-101B-9397-08002B2CF9AE}" pid="11" name="LeftFooterField">
    <vt:lpwstr>© Ericsson AB 2009</vt:lpwstr>
  </property>
  <property fmtid="{D5CDD505-2E9C-101B-9397-08002B2CF9AE}" pid="12" name="MiddleFooterField">
    <vt:lpwstr>Public</vt:lpwstr>
  </property>
  <property fmtid="{D5CDD505-2E9C-101B-9397-08002B2CF9AE}" pid="13" name="Pages">
    <vt:bool>1</vt:bool>
  </property>
  <property fmtid="{D5CDD505-2E9C-101B-9397-08002B2CF9AE}" pid="14" name="Prepared">
    <vt:lpwstr>Anders Ekholm</vt:lpwstr>
  </property>
  <property fmtid="{D5CDD505-2E9C-101B-9397-08002B2CF9AE}" pid="15" name="Reference">
    <vt:lpwstr/>
  </property>
  <property fmtid="{D5CDD505-2E9C-101B-9397-08002B2CF9AE}" pid="16" name="Revision">
    <vt:lpwstr>PA1</vt:lpwstr>
  </property>
  <property fmtid="{D5CDD505-2E9C-101B-9397-08002B2CF9AE}" pid="17" name="RightFooterField">
    <vt:lpwstr/>
  </property>
  <property fmtid="{D5CDD505-2E9C-101B-9397-08002B2CF9AE}" pid="18" name="RightFooterField2">
    <vt:lpwstr>2009-09-25</vt:lpwstr>
  </property>
  <property fmtid="{D5CDD505-2E9C-101B-9397-08002B2CF9AE}" pid="19" name="SecurityClass">
    <vt:lpwstr>Public</vt:lpwstr>
  </property>
  <property fmtid="{D5CDD505-2E9C-101B-9397-08002B2CF9AE}" pid="20" name="TemplateName">
    <vt:lpwstr>CXC 172 2019/1</vt:lpwstr>
  </property>
  <property fmtid="{D5CDD505-2E9C-101B-9397-08002B2CF9AE}" pid="21" name="TemplateName2">
    <vt:lpwstr>CXC 172 2019/1</vt:lpwstr>
  </property>
  <property fmtid="{D5CDD505-2E9C-101B-9397-08002B2CF9AE}" pid="22" name="TemplateVersion">
    <vt:lpwstr>R1A</vt:lpwstr>
  </property>
  <property fmtid="{D5CDD505-2E9C-101B-9397-08002B2CF9AE}" pid="23" name="TemplateVersion2">
    <vt:lpwstr>R1A</vt:lpwstr>
  </property>
  <property fmtid="{D5CDD505-2E9C-101B-9397-08002B2CF9AE}" pid="24" name="Title">
    <vt:lpwstr/>
  </property>
  <property fmtid="{D5CDD505-2E9C-101B-9397-08002B2CF9AE}" pid="25" name="TotalNumb">
    <vt:bool>0</vt:bool>
  </property>
  <property fmtid="{D5CDD505-2E9C-101B-9397-08002B2CF9AE}" pid="26" name="White">
    <vt:bool>1</vt:bool>
  </property>
  <property fmtid="{D5CDD505-2E9C-101B-9397-08002B2CF9AE}" pid="27" name="chkMetaData">
    <vt:bool>0</vt:bool>
  </property>
  <property fmtid="{D5CDD505-2E9C-101B-9397-08002B2CF9AE}" pid="28" name="chkTaglines">
    <vt:bool>1</vt:bool>
  </property>
  <property fmtid="{D5CDD505-2E9C-101B-9397-08002B2CF9AE}" pid="29" name="optEnterText1">
    <vt:bool>0</vt:bool>
  </property>
  <property fmtid="{D5CDD505-2E9C-101B-9397-08002B2CF9AE}" pid="30" name="optEnterText2">
    <vt:bool>0</vt:bool>
  </property>
  <property fmtid="{D5CDD505-2E9C-101B-9397-08002B2CF9AE}" pid="31" name="optEnterText3">
    <vt:bool>0</vt:bool>
  </property>
  <property fmtid="{D5CDD505-2E9C-101B-9397-08002B2CF9AE}" pid="32" name="optEnterText4">
    <vt:bool>0</vt:bool>
  </property>
  <property fmtid="{D5CDD505-2E9C-101B-9397-08002B2CF9AE}" pid="33" name="optFooterCVLConfLabel">
    <vt:bool>1</vt:bool>
  </property>
  <property fmtid="{D5CDD505-2E9C-101B-9397-08002B2CF9AE}" pid="34" name="optFooterCVLCopyright">
    <vt:bool>1</vt:bool>
  </property>
  <property fmtid="{D5CDD505-2E9C-101B-9397-08002B2CF9AE}" pid="35" name="optFooterCVLDate">
    <vt:bool>1</vt:bool>
  </property>
  <property fmtid="{D5CDD505-2E9C-101B-9397-08002B2CF9AE}" pid="36" name="optFooterCVLDocNo">
    <vt:bool>0</vt:bool>
  </property>
  <property fmtid="{D5CDD505-2E9C-101B-9397-08002B2CF9AE}" pid="37" name="optFooterCVLPrep">
    <vt:bool>0</vt:bool>
  </property>
  <property fmtid="{D5CDD505-2E9C-101B-9397-08002B2CF9AE}" pid="38" name="optFooterCVLTitle">
    <vt:bool>1</vt:bool>
  </property>
  <property fmtid="{D5CDD505-2E9C-101B-9397-08002B2CF9AE}" pid="39" name="optUseConfClass">
    <vt:bool>1</vt:bool>
  </property>
  <property fmtid="{D5CDD505-2E9C-101B-9397-08002B2CF9AE}" pid="40" name="optUseConfLabel">
    <vt:bool>0</vt:bool>
  </property>
  <property fmtid="{D5CDD505-2E9C-101B-9397-08002B2CF9AE}" pid="41" name="txtConfLabel">
    <vt:lpwstr>Public</vt:lpwstr>
  </property>
  <property fmtid="{D5CDD505-2E9C-101B-9397-08002B2CF9AE}" pid="42" name="x">
    <vt:lpwstr>1</vt:lpwstr>
  </property>
</Properties>
</file>